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png" ContentType="image/png"/>
  <Override PartName="/ppt/media/image3.png" ContentType="image/png"/>
  <Override PartName="/ppt/media/image4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4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5.xml.rels" ContentType="application/vnd.openxmlformats-package.relationships+xml"/>
  <Override PartName="/ppt/slides/_rels/slide33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75E7B9-2DA7-4D67-AE55-59E2B6C65F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6FFC5-C948-4009-88E5-B4CC8566F3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F364E-7723-4089-96DD-C187FDB0621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E789B7-65B6-4F3B-A593-1D552FE03E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EC7E53-D9F0-40C5-AA27-1185C05220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972612-5464-4248-B522-69EE397B11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07AFFF-FA1A-47EB-B88D-4716114A30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33D7CC-8D7B-497A-A362-38C7599C11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831793-E20E-4F64-B625-223C762CB1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F6D700-4832-4572-BE8E-2379C24C8E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0B1278-3173-488A-933A-351BC265DB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3E7BF-702B-4B50-9CC3-1B8C50BFD9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36A124-D2B3-4346-8690-37CBCC5B44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04B085-BC0E-4703-A065-E01AEB7D3F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C5A03D-6CE1-4FA2-8160-2B51C619F3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C236CB-E596-48E6-9907-AF592ED4005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384732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6474960" y="16002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1219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/>
          </p:nvPr>
        </p:nvSpPr>
        <p:spPr>
          <a:xfrm>
            <a:off x="384732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89" name="PlaceHolder 7"/>
          <p:cNvSpPr>
            <a:spLocks noGrp="1"/>
          </p:cNvSpPr>
          <p:nvPr>
            <p:ph/>
          </p:nvPr>
        </p:nvSpPr>
        <p:spPr>
          <a:xfrm>
            <a:off x="6474960" y="39484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59D778-1D96-40CD-919A-91A626B661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BFD4E7-E39F-4AE7-8E30-C474DAD173F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99C480-ACF2-420E-ADF8-03676D1EA5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A24C80-DBE1-49A5-B595-B2ADF6DFF0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1219320" y="304560"/>
            <a:ext cx="7772400" cy="5593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88364-7FC8-4817-AE82-F76E0581D72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AFB71D-D359-4749-94FB-93865B44C8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202000" y="39484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ACE0B-C674-4075-BA9E-9E3CF5382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202000" y="16002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1219320" y="39484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E91FF9-6713-442C-8C2E-7EB79C87BB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1143000" cy="6856560"/>
            <a:chOff x="0" y="0"/>
            <a:chExt cx="1143000" cy="6856560"/>
          </a:xfrm>
        </p:grpSpPr>
        <p:sp>
          <p:nvSpPr>
            <p:cNvPr id="1" name="Rectangle 3"/>
            <p:cNvSpPr/>
            <p:nvPr/>
          </p:nvSpPr>
          <p:spPr>
            <a:xfrm>
              <a:off x="0" y="0"/>
              <a:ext cx="1143000" cy="53352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2" name="Rectangle 4"/>
            <p:cNvSpPr/>
            <p:nvPr/>
          </p:nvSpPr>
          <p:spPr>
            <a:xfrm>
              <a:off x="0" y="3200400"/>
              <a:ext cx="1143000" cy="365616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3" name="Picture 5" descr=""/>
            <p:cNvPicPr/>
            <p:nvPr/>
          </p:nvPicPr>
          <p:blipFill>
            <a:blip r:embed="rId3"/>
            <a:stretch/>
          </p:blipFill>
          <p:spPr>
            <a:xfrm>
              <a:off x="0" y="495360"/>
              <a:ext cx="1143000" cy="297180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6" name="PlaceHolder 3"/>
          <p:cNvSpPr>
            <a:spLocks noGrp="1"/>
          </p:cNvSpPr>
          <p:nvPr>
            <p:ph type="dt" idx="1"/>
          </p:nvPr>
        </p:nvSpPr>
        <p:spPr>
          <a:xfrm>
            <a:off x="11430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7" name="PlaceHolder 4"/>
          <p:cNvSpPr>
            <a:spLocks noGrp="1"/>
          </p:cNvSpPr>
          <p:nvPr>
            <p:ph type="ftr" idx="2"/>
          </p:nvPr>
        </p:nvSpPr>
        <p:spPr>
          <a:xfrm>
            <a:off x="35812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8" name="PlaceHolder 5"/>
          <p:cNvSpPr>
            <a:spLocks noGrp="1"/>
          </p:cNvSpPr>
          <p:nvPr>
            <p:ph type="sldNum" idx="3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86F43B-1ACC-46B5-9898-34F64029B10A}" type="slidenum">
              <a:rPr b="0" lang="en-US" sz="1400" spc="-1" strike="noStrike">
                <a:solidFill>
                  <a:srgbClr val="000000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200b5b"/>
            </a:gs>
            <a:gs pos="50000">
              <a:srgbClr val="6600ff"/>
            </a:gs>
            <a:gs pos="100000">
              <a:srgbClr val="200b5b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" name="Group 2"/>
          <p:cNvGrpSpPr/>
          <p:nvPr/>
        </p:nvGrpSpPr>
        <p:grpSpPr>
          <a:xfrm>
            <a:off x="0" y="0"/>
            <a:ext cx="1828800" cy="6856560"/>
            <a:chOff x="0" y="0"/>
            <a:chExt cx="1828800" cy="6856560"/>
          </a:xfrm>
        </p:grpSpPr>
        <p:sp>
          <p:nvSpPr>
            <p:cNvPr id="46" name="Rectangle 3"/>
            <p:cNvSpPr/>
            <p:nvPr/>
          </p:nvSpPr>
          <p:spPr>
            <a:xfrm>
              <a:off x="0" y="0"/>
              <a:ext cx="1828800" cy="1628640"/>
            </a:xfrm>
            <a:prstGeom prst="rect">
              <a:avLst/>
            </a:prstGeom>
            <a:gradFill rotWithShape="0">
              <a:gsLst>
                <a:gs pos="0">
                  <a:srgbClr val="200b5b"/>
                </a:gs>
                <a:gs pos="100000">
                  <a:srgbClr val="eeb00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sp>
          <p:nvSpPr>
            <p:cNvPr id="47" name="Rectangle 4"/>
            <p:cNvSpPr/>
            <p:nvPr/>
          </p:nvSpPr>
          <p:spPr>
            <a:xfrm>
              <a:off x="0" y="3809880"/>
              <a:ext cx="1828800" cy="3046680"/>
            </a:xfrm>
            <a:prstGeom prst="rect">
              <a:avLst/>
            </a:prstGeom>
            <a:gradFill rotWithShape="0">
              <a:gsLst>
                <a:gs pos="0">
                  <a:srgbClr val="eeb00b"/>
                </a:gs>
                <a:gs pos="100000">
                  <a:srgbClr val="200b5b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eaeaea"/>
                </a:solidFill>
                <a:latin typeface="Times New Roman"/>
              </a:endParaRPr>
            </a:p>
          </p:txBody>
        </p:sp>
        <p:pic>
          <p:nvPicPr>
            <p:cNvPr id="48" name="Picture 5" descr=""/>
            <p:cNvPicPr/>
            <p:nvPr/>
          </p:nvPicPr>
          <p:blipFill>
            <a:blip r:embed="rId2"/>
            <a:stretch/>
          </p:blipFill>
          <p:spPr>
            <a:xfrm>
              <a:off x="0" y="1631880"/>
              <a:ext cx="1828800" cy="2222640"/>
            </a:xfrm>
            <a:prstGeom prst="rect">
              <a:avLst/>
            </a:prstGeom>
            <a:ln w="0">
              <a:noFill/>
            </a:ln>
          </p:spPr>
        </p:pic>
      </p:grpSp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Click to edit the title text format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body"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Click to edit the outline text format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1" marL="743040" indent="-28584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con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Third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3" marL="1600200" indent="-228600">
              <a:spcBef>
                <a:spcPts val="799"/>
              </a:spcBef>
              <a:buClr>
                <a:srgbClr val="eaeaea"/>
              </a:buClr>
              <a:buFont typeface="굴림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our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4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Fif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5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ix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lvl="6" marL="2057400" indent="-228600">
              <a:spcBef>
                <a:spcPts val="799"/>
              </a:spcBef>
              <a:buClr>
                <a:srgbClr val="eaeaea"/>
              </a:buClr>
              <a:buFont typeface="굴림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Seventh Outline Level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 type="dt" idx="4"/>
          </p:nvPr>
        </p:nvSpPr>
        <p:spPr>
          <a:xfrm>
            <a:off x="1828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 type="ftr" idx="5"/>
          </p:nvPr>
        </p:nvSpPr>
        <p:spPr>
          <a:xfrm>
            <a:off x="3962160" y="640080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Times New Roman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 type="sldNum" idx="6"/>
          </p:nvPr>
        </p:nvSpPr>
        <p:spPr>
          <a:xfrm>
            <a:off x="723888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eaeaea"/>
                </a:solidFill>
                <a:latin typeface="굴림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0ED6C3-A569-4697-901B-2FDA018E9303}" type="slidenum">
              <a:rPr b="0" lang="en-US" sz="1400" spc="-1" strike="noStrike">
                <a:solidFill>
                  <a:srgbClr val="eaeaea"/>
                </a:solidFill>
                <a:latin typeface="굴림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제 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2 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장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lvl="2" marL="1143000" indent="0" algn="just"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말더듬의 이론과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  <a:p>
            <a:pPr lvl="2" marL="1143000" indent="0" algn="just">
              <a:spcBef>
                <a:spcPts val="11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ko-KR" sz="4800" spc="-1" strike="noStrike">
                <a:solidFill>
                  <a:srgbClr val="eaeaea"/>
                </a:solidFill>
                <a:latin typeface="굴림"/>
              </a:rPr>
              <a:t>치료적인 의미</a:t>
            </a:r>
            <a:endParaRPr b="0" lang="en-US" sz="4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Andrews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등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1983)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주장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과 정상인들 사이의 차이점이 원인이라면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그 차이점들은 아동이 말을 더듬기 시작하기 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더듬기 시작할 때 차이점이 나타나야 함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후에 그 차이점들은 말더듬이 없어지지 못하게 하는 요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/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일으키는 요인으로 나타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회부적응은 말더듬의 원인이라기 보다는 말더듬의 결과일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에 대한 결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부적응이 말더듬의 원인이 되는 것은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말더듬이들은 자신의 말더듬 행동에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청자들은 그 말더듬이에게 반응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가 원인적 작인이 되지 않고도 말더듬이를 둘러싸고 있는 정서성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emotionality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있을 수도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든 말더듬이들에게서 정서성이 말더듬을 둘러싸고 있다는 사실도 증명되지 않았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</a:t>
            </a:r>
            <a:r>
              <a:rPr b="1" lang="ko-KR" sz="3200" spc="-1" strike="noStrike">
                <a:solidFill>
                  <a:srgbClr val="ffcc66"/>
                </a:solidFill>
                <a:latin typeface="휴먼고딕"/>
                <a:ea typeface="휴먼고딕"/>
              </a:rPr>
              <a:t>치료적인 의미</a:t>
            </a:r>
            <a:endParaRPr b="0" lang="en-US" sz="32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고딕"/>
              </a:rPr>
              <a:t>1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의 치료는 의미적으로 정신분석이나 심리치료의 형태를 이용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러한 형태의 치료가 말더듬을 효과적으로 치료하지 못하였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어떤 방법이 모든 혹은 대부분의 말더듬이들에게 좋은 치료방법이라는 생각에 너무 집착은 금물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4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런 이론적인 틀을 아동들의 치료에 적용한다면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아동이 자기의 감정과 그 환경에 있는 사람들과 상호작용을 하는 어떤 형태의 유희치료일 것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5.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현재의 치료 추세</a:t>
            </a: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구어를 직접적으로 다루는 기법과 언어중심 치료 쪽으로 초점이 맞추어 지고 있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HCI Poppy"/>
                <a:ea typeface="휴먼명조"/>
              </a:rPr>
              <a:t>6. Van Riper: </a:t>
            </a:r>
            <a:r>
              <a:rPr b="0" lang="ko-KR" sz="20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치료만으로는 좋은 결과를 가져올 수 없음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Wendell Johnson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가장 가까운 환경에 있는 사람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통 한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양쪽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진단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후에야 말더듬이 된다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en-US" sz="24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부모들의 귀에서 시작된다</a:t>
            </a:r>
            <a:r>
              <a:rPr b="0" lang="ko-KR" sz="24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라고 진단받기 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초기 아동기에서 경험하는 정상적인 비유창성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와 아동 양육에 완전무결주의적인 태도를 가진 열성적인 부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들의 구어산출에 지나친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진단기인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동적인 구어 행위가 매우 의식적인 행위로 되어 가는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자신의 구어산출 방법에 대한 자각 증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긴장 고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 회피 반응 증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비평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완전무결주의적으로 반응하였다는 것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들의 부모들이 더 신경증적이라는 것도 증명 못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진단이론의 발전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상호작용가설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청자의 상호작용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아마 화자의 병리적인 비유창성에 민감한 청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의 병리적인 비유창성의 정도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)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화자 자신의 병리적인 비유창성과 타인의 평가적인 반응에 대한 화자의 민감성  등을 포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의미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 치료는 간접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담을 통하여 부모들의 완전무결주의적인 태도를 변화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나이가 들고 증후가 악화된 말더듬이들의 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기회피라는 개념에 근거한 치료방법을 개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에게 의미적인 재오리엔테이션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reorientation)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즉 자기 자신에 대한 사려깊은 재평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를 들면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가 양 입술이나 호흡으로 어떻게 말이 흘러나오는 것을 막고 있는가를 재평가하도록 제안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이 자신에게 하고 있는 것을 생각하기보다는 말더듬이 일어나면 자기의 유창한 구어산출을 방해하고 있는 것이 무엇인가를 생각하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의미적인 변경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semantic alteration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유창성과 비유창성이 말더듬이와 정상인을 이분하는 의미로 보지 않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도 비유창성이 일어나는 계속적인 의미라는 것을 깨닫도록 촉진시킴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상인에게서 정상적인 비유창성을 평가하게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Bloodstei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원인에 관한 이론이 아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의 순간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the moment of stuttering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에 관한 가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말이 원래부터 어려운 것이라고 믿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이들은 구어를 특별한 주의와 노력이 요구되는 것으로서 받아들이기 때문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Wendell Johnson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의 예기 회피 반응에 부분적으로 뿌리를 두고 있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예기 투쟁 가설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예기 투쟁은 구어를 잘 산출하려는 아동의 노력에서 발달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 가설의 계속성 측면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아동의 말더듬은 정상적인 구어 및 언어 습득에서 정상적인 비유창성에 그 근원을 두고 있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어린 말더듬이의 증후는 정상적인 비유창성의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극단적인 정도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"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연구가 어려운 이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80880" y="1981080"/>
            <a:ext cx="838224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제안된 이론이 너무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해진 연구가 너무나 많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구 결과가 종종 상반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을 만족스럽게 설명하는 이론 없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 치료에 대한 튼튼한 이론적인 기초는 부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4" name="00418.mp3" descr=""/>
          <p:cNvPicPr/>
          <p:nvPr/>
        </p:nvPicPr>
        <p:blipFill>
          <a:blip r:embed="rId1"/>
          <a:stretch/>
        </p:blipFill>
        <p:spPr>
          <a:xfrm>
            <a:off x="864396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94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로서 자기 자신에 대한 자신감을 증가시키는 것에 목표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자신감을 증가시키는 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한 날과 비유창한 날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유창성을 강화시키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부모들의 어떠한 요구나 제한적인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혹은 완전무결주의적인 경향을 다루는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등에 관한 매우 일상적인 상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아동들이 어려움을 예견하는 것을 예방하거나 감소시킴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치료적인 의미</a:t>
            </a:r>
            <a:r>
              <a:rPr b="1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치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) F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운동계획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제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7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 참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란 기법에서 사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) Johnson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의미론적인 재교육과 같은 간접적인 방법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) "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쳐 배우는 과정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"(unlearning process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의미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1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가 어려운 것이라는 믿음을 고쳐 배우도록 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2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사람은 말을 하기 위해서는 열심히 노력하고 투쟁해야 된다는 것을 고쳐 배우도록 도울 필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대표적인 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 algn="just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고전적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조작적 조건화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UCS)                      (U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기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NS)     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-343080">
              <a:spcBef>
                <a:spcPts val="799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종소리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------------ 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CS)                           (CR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원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Brutten &amp; Shoemaker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고전적 조건화 및 조작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도구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건화 이론들을 결합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말더듬의 발생과 구어와 관련된 불안은 고전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연합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차성 혹은 부차적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증후의 발달을 조작적 조건화로 설명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은 스트레스가 있는 환경적인 사건에 의해서 야기되는 부정적인 정서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구어 붕괴는 정서적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혹은 자율신경계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스트레스 혹은 각성 상태 하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러한 붕괴는 부정적인 정서와 동시에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는 부수적으로 일어나는 구어의 깨어짐과 함께 스트레스가 있는 환경적인 사건이나 실마리와 짝지어지거나 재연됨으로써 조건화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고전적 조건화는 조건화된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환경적인 스트레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과 무조건화 자극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정적인 정서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 짝지어지는 것을 의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비유창한 반응은 다른 비슷한 장면들에 일반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7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아동은 그 장면들을 통제하기 위하여 구어시도를 하기 위한 노력을 많이 하기 시작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8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조음기관들을 긴장하게 하거나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말을 밖으로 내기 위해서 발을 차거나 해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그 상태를 더 악화시킨 연관된 특성을 사용하기 시작하게 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9. Brutten &amp; Shoemaker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는 이러한 연관된 증후들을 조정적인 혹은 문제를 해결하는 행동들이라고 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0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들이 일시적으로 긴장을 풀어 주기 때문에 말더듬이들에게 간헐적으로 효과적이거나 보상을 주는 한</a:t>
            </a: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이러한 행동은 그 조건을 강화시킴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eaeaea"/>
                </a:solidFill>
                <a:latin typeface="굴림"/>
              </a:rPr>
              <a:t>11. </a:t>
            </a:r>
            <a:r>
              <a:rPr b="0" lang="ko-KR" sz="2000" spc="-1" strike="noStrike">
                <a:solidFill>
                  <a:srgbClr val="eaeaea"/>
                </a:solidFill>
                <a:latin typeface="굴림"/>
              </a:rPr>
              <a:t>연합된 증후들의 학습은 그 증후의 효용성의 가변성에 따라 강화됨</a:t>
            </a:r>
            <a:endParaRPr b="0" lang="en-US" sz="20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2. Shames &amp; Sherrick(1963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말더듬은 조작적 조건화만의 결과로 일어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3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동의 정상적인 비유창성은 부모들의 관심에 의해서 강화를 받았을지도 모름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4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 결과로써 정상적인 비유창성이 증가될 수 있으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러면 벌을 받게 되고 결과적으로 정상적인 비유창성이 말을 계속하려고 투쟁을 하거나 말을 그만두고 침묵을 하는 선택을 하게 된다고 주장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5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보다 새로운 말더듬 형태는 벌을 받지 않게 됨으로써 부적으로 강화를 받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아마 시간이 지나면 더 심한 벌을 초래할 것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4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그래서 반복과 연장은 변동강화 스케줄을 통해서 학습되고 강화되어지는 어떤 형태로 악화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7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병리적인 비유창성을 나타낼 때 자기의 말을 듣는 사람으로부터 더 많은 관심을 받기 때문에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부적 강화와 더불어 정적 강화도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8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은 어떠한 종류의 정상적인 비유창성이라도 어떤 형태의 강화에 의하여 증가시킬 수 있거나 감소시킬 수 있는 하나의 조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operant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써 생각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19. Shames &amp; Sherrick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의 관점은 보편적으로는 받아들여지고 있지 않지만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부분적으로는 받아들여지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이론의 틀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5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0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조작적 절차가 예언적으로 말더듬에 영향을 미친다는 행동수정 연구의 증거가 전적으로 명확하게 나타나는 것은 아니기 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21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에 대한 조작적 연구가 많음에도 불구하고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말더듬의 원인과 그러한 조작적 조건화와의 관계는 분명하게 밝혀지지 않고 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말더듬 치료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경험 및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/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혹은 이론에 근거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Wingate: </a:t>
            </a:r>
            <a:r>
              <a:rPr b="0" lang="en-US" sz="3200" spc="-1" strike="noStrike">
                <a:solidFill>
                  <a:srgbClr val="eaeaea"/>
                </a:solidFill>
                <a:latin typeface="Times New Roman"/>
              </a:rPr>
              <a:t>“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포괄적이고 일관성있는 이론이 이루어질 때까지 기다렸다가 치료를 시작할 수는 없다</a:t>
            </a:r>
            <a:r>
              <a:rPr b="0" lang="ko-KR" sz="3200" spc="-1" strike="noStrike">
                <a:solidFill>
                  <a:srgbClr val="eaeaea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임상가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과학적인 지식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+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이론들의 강점과 약점들을 평가 가능해야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본서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세가지 요인 사이에 어떤 상호작용이 있을 것이라는 것을 가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주창자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: Sheehan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와 하지 않으려는 동기 사이에 말려들게 된다고 가정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을 하려는 동기가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가 말을 할 것이고 또 유창성을 경험할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회피동기가 더 강하다면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말을 하지 않고 조용히 있을 것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4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은 이 두개의 동기가 꼭 같은 힘으로 작용하고 있을 때 일어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5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화자는 이 두개의 동기 사이에서 흔들리게 됨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접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회피 갈등이론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 algn="just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6.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계속 말하지 못할 경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결과로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좌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죄의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수치심으로 고통 받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 배의 접근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-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회피 갈등이 생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갈등은 단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장면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정서표현의 수준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인관계의 수준들에서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609480" indent="-609480" algn="just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arenR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대부분의 말더듬이들이 복합적인 갈등을 가짐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굴림"/>
              </a:rPr>
              <a:t>학습이론의 치료적인 의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고전적인 조건화는 자율 신경계의 각성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(arousal)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과 그것에 수반되는 정서적인 불쾌함을 포함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그러므로 특정한 장면에서 환자의 정서적인 상태를 체계적으로 감소시키기 위하여 고안된 둔감절차들을 수행한다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학습이 특정한 행동의 강화에 달려 있다는 조작적 조건화에 대한 치료적인 접근방법은 보통 유창성을 강화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벌하거나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800" spc="-1" strike="noStrike">
                <a:solidFill>
                  <a:srgbClr val="eaeaea"/>
                </a:solidFill>
                <a:latin typeface="굴림"/>
              </a:rPr>
              <a:t>말더듬을 수정하는 것이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체계적 둔감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근육긴장이완 및 불안과 같은 고전적으로 조건화된 반응의 체계적인 둔감화를 결합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601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두려움을 가장 적게 느낀 장면에서 두려움을 가장 많이 느낀 장면에까지 단계적으로 말하는 장면을 계속 상상하는데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상상하는 각 장면이 두려운 반응없이 견딜 수 있을 단계에까지 계속한다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. 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533520" indent="-533520">
              <a:spcBef>
                <a:spcPts val="700"/>
              </a:spcBef>
              <a:buClr>
                <a:srgbClr val="ffcc66"/>
              </a:buClr>
              <a:buSzPct val="90000"/>
              <a:buFont typeface="굴림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이차 증후는 결과적으로 그 증후에 대한 반응을 억제하도록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reactive inhibition)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설계된 많은 연습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예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어떤 행동을 소거하기 위하여 강화없이 그 행동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(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반응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을 자발적이고 반복적으로 산출하는 것</a:t>
            </a:r>
            <a:r>
              <a:rPr b="0" lang="en-US" sz="2400" spc="-1" strike="noStrike">
                <a:solidFill>
                  <a:srgbClr val="eaeaea"/>
                </a:solidFill>
                <a:latin typeface="굴림"/>
              </a:rPr>
              <a:t>)</a:t>
            </a:r>
            <a:r>
              <a:rPr b="0" lang="ko-KR" sz="2400" spc="-1" strike="noStrike">
                <a:solidFill>
                  <a:srgbClr val="eaeaea"/>
                </a:solidFill>
                <a:latin typeface="굴림"/>
              </a:rPr>
              <a:t>으로서 치료된다</a:t>
            </a:r>
            <a:r>
              <a:rPr b="0" lang="en-US" sz="2800" spc="-1" strike="noStrike">
                <a:solidFill>
                  <a:srgbClr val="eaeaea"/>
                </a:solidFill>
                <a:latin typeface="굴림"/>
              </a:rPr>
              <a:t>.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학습이론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전기자극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타임아웃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성 형성 기법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(fluency shaping techniques):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행동수정의 영향 받음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유창한 구어를 강화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굴림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굴림"/>
              </a:rPr>
              <a:t>조작적 원리를 사용한 프로그램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사회적 요인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799"/>
              </a:spcBef>
              <a:buClr>
                <a:srgbClr val="ffcc66"/>
              </a:buClr>
              <a:buSzPct val="90000"/>
              <a:buFont typeface="휴먼고딕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명조"/>
              </a:rPr>
              <a:t>심리역학적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2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진단기인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3. </a:t>
            </a: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예기 투쟁 가설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3200" spc="-1" strike="noStrike">
                <a:solidFill>
                  <a:srgbClr val="eaeaea"/>
                </a:solidFill>
                <a:latin typeface="휴먼고딕"/>
                <a:ea typeface="휴먼고딕"/>
              </a:rPr>
              <a:t>   </a:t>
            </a: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(anticipatory struggle hypothesis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eaeaea"/>
                </a:solidFill>
                <a:latin typeface="HCI Hollyhock"/>
                <a:ea typeface="휴먼고딕"/>
              </a:rPr>
              <a:t>4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습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원이론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(two-factor theory)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조작적 조건화 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609480" indent="0" algn="just">
              <a:lnSpc>
                <a:spcPct val="9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3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접근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회피 갈등이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99" name="00419.mp3" descr=""/>
          <p:cNvPicPr/>
          <p:nvPr/>
        </p:nvPicPr>
        <p:blipFill>
          <a:blip r:embed="rId1"/>
          <a:stretch/>
        </p:blipFill>
        <p:spPr>
          <a:xfrm>
            <a:off x="8715240" y="14292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" dur="indefinite" restart="never" nodeType="tmRoot">
          <p:childTnLst>
            <p:seq>
              <p:cTn id="8" dur="indefinite" nodeType="mainSeq">
                <p:childTnLst>
                  <p:par>
                    <p:cTn id="9" fill="hold">
                      <p:stCondLst>
                        <p:cond delay="0"/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" dur="1" fill="hold"/>
                                        <p:tgtEl>
                                          <p:spTgt spid="99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개인의 적응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적인 사고와 관련된 심한 장애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의 말더듬의 원인에 관한 추정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부모의 높은 요구수준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에 대한 높은 기대 수준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심리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서적인 문제</a:t>
            </a:r>
            <a:r>
              <a:rPr b="0" lang="en-US" sz="32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32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 등</a:t>
            </a:r>
            <a:endParaRPr b="0" lang="en-US" sz="3200" spc="-1" strike="noStrike">
              <a:solidFill>
                <a:srgbClr val="eaeaea"/>
              </a:solidFill>
              <a:latin typeface="굴림"/>
            </a:endParaRPr>
          </a:p>
        </p:txBody>
      </p:sp>
      <p:pic>
        <p:nvPicPr>
          <p:cNvPr id="102" name="00420.mp3" descr=""/>
          <p:cNvPicPr/>
          <p:nvPr/>
        </p:nvPicPr>
        <p:blipFill>
          <a:blip r:embed="rId1"/>
          <a:stretch/>
        </p:blipFill>
        <p:spPr>
          <a:xfrm>
            <a:off x="8715240" y="214200"/>
            <a:ext cx="304920" cy="30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" dur="1" fill="hold"/>
                                        <p:tgtEl>
                                          <p:spTgt spid="10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2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언어병리학 전공 학생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(1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학년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박사과정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에 대상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CATS  </a:t>
            </a:r>
            <a:r>
              <a:rPr b="0" lang="ko-KR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설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문지 분석 결과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1)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심리적인 문제가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0%; St. Louis &amp; Lass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대부분의 말더듬이들은 열등감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58%, St. Louis &amp; Lass 71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ko-KR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심리역학적 이론</a:t>
            </a:r>
            <a:r>
              <a:rPr b="1" lang="en-US" sz="4400" spc="-1" strike="noStrike">
                <a:solidFill>
                  <a:srgbClr val="ffcc66"/>
                </a:solidFill>
                <a:latin typeface="휴먼고딕"/>
                <a:ea typeface="휴먼고딕"/>
              </a:rPr>
              <a:t>-3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설문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"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은 어떤 성격특성을 가지고 있다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"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Cooper 49%, St. Louis &amp; Lass 54%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가 동의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론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1. Cooper--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모순성이 증명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;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임상가들이 말더듬에 대한 잘못된 인상을 계속 가짐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2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</a:t>
            </a:r>
            <a:r>
              <a:rPr b="0" lang="en-US" sz="28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이 어떤 특징적인 성격특성을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8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전형적인 성격장애 또한 가지고 있지 않음</a:t>
            </a:r>
            <a:endParaRPr b="0" lang="en-US" sz="28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휴먼명조"/>
                <a:ea typeface="휴먼명조"/>
              </a:rPr>
              <a:t>심리역학적 이론의 근거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1371600" y="1628280"/>
            <a:ext cx="7772400" cy="44960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정신분석학적 틀에서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성격 및 심리 사회적 발달에 대한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관점에 근거를 둠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Freud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는 아동발달에 구순기와 항문기의 중요성 강조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3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일부 정신분석학자들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이 시기 전후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,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 일어남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. Coriat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을 구강기 고착의 결과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5. Glauber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는 충동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id)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과 초자아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superego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사이에 갈등을 겪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6. Travis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하는 것에 관한 말더듬이들의 상반감정병존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(ambivalence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때문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7. Barbara: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생활장면 속에서 부적당한 대인관계와 적응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9320" y="304560"/>
            <a:ext cx="7772400" cy="1206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투사검사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/</a:t>
            </a:r>
            <a:r>
              <a:rPr b="0" lang="ko-KR" sz="4400" spc="-1" strike="noStrike">
                <a:solidFill>
                  <a:srgbClr val="ffcc66"/>
                </a:solidFill>
                <a:latin typeface="굴림"/>
              </a:rPr>
              <a:t>인성검사 결과</a:t>
            </a:r>
            <a:r>
              <a:rPr b="0" lang="en-US" sz="4400" spc="-1" strike="noStrike">
                <a:solidFill>
                  <a:srgbClr val="ffcc66"/>
                </a:solidFill>
                <a:latin typeface="굴림"/>
              </a:rPr>
              <a:t>-1</a:t>
            </a:r>
            <a:endParaRPr b="0" lang="en-US" sz="4400" spc="-1" strike="noStrike">
              <a:solidFill>
                <a:srgbClr val="ffcc66"/>
              </a:solidFill>
              <a:latin typeface="굴림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1219320" y="16002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cc66"/>
              </a:buClr>
              <a:buSzPct val="90000"/>
              <a:buFont typeface="Symbol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Rorschach Test / Minnesota Multiphasic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Personality Inventory(MMPI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말더듬이들의 성격이나 심리 구조가 정상자들과 차이 여부에 연구 관심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.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결과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(Van Riper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의 요약</a:t>
            </a:r>
            <a:r>
              <a:rPr b="0" lang="en-US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)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1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결과들을 정확하게 판단하기 어려움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2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연구가 갖추어야 할 기본적인 기준을 충족시킨 연구는 많지 않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3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상호모순되는 연구들이 많았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ko-KR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  </a:t>
            </a:r>
            <a:r>
              <a:rPr b="0" lang="en-US" sz="2400" spc="-1" strike="noStrike">
                <a:solidFill>
                  <a:srgbClr val="eaeaea"/>
                </a:solidFill>
                <a:latin typeface="HCI Poppy"/>
                <a:ea typeface="휴먼명조"/>
              </a:rPr>
              <a:t>4) </a:t>
            </a:r>
            <a:r>
              <a:rPr b="0" lang="ko-KR" sz="2400" spc="-1" strike="noStrike">
                <a:solidFill>
                  <a:srgbClr val="eaeaea"/>
                </a:solidFill>
                <a:latin typeface="휴먼명조"/>
                <a:ea typeface="휴먼명조"/>
              </a:rPr>
              <a:t>신경증이라는 단일 원인으로써 말더듬이 된 경우는 없었음</a:t>
            </a:r>
            <a:endParaRPr b="0" lang="en-US" sz="2400" spc="-1" strike="noStrike">
              <a:solidFill>
                <a:srgbClr val="eaeaea"/>
              </a:solidFill>
              <a:latin typeface="굴림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9-06T07:03:17Z</dcterms:created>
  <dc:creator>황규탁</dc:creator>
  <dc:description/>
  <dc:language>en-US</dc:language>
  <cp:lastModifiedBy>user</cp:lastModifiedBy>
  <dcterms:modified xsi:type="dcterms:W3CDTF">2013-11-13T06:49:04Z</dcterms:modified>
  <cp:revision>16</cp:revision>
  <dc:subject/>
  <dc:title>제 2 장</dc:title>
</cp:coreProperties>
</file>