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9EF41-FDD8-4084-AF8A-88A89CB76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F4359-AC9E-4182-9316-C873A9461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1AB12-0ED8-42B2-9F33-80F1F7C27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12226-9ADB-4153-AF7F-D041778B1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B49F4-E8AF-4348-BE19-A224E4D96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BAF0E-E428-4FD2-B506-66877834A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ED44F-9BD4-4C38-A3D6-8BD6BF420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C2BDB-8DEE-4B2B-8B4F-4A90C5B41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8C63E-33A3-44FF-B0A5-02554CAF1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38098-126C-4A25-A99F-A09592BF2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68C54-F796-48A9-9FA8-5776407B2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5B23D-7106-4E8E-8371-586F4C86D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825A7-BCE8-4AF4-A9F3-D0E43C53D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C4BA9-4D61-4F59-A984-D9A092B3C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1A63D-F909-4A3C-B0AB-682AEE417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579BE-DD61-4863-BB01-51D4E4DE7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59B72-8725-4C43-B5A4-3394C5010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84884-47B4-47C4-BC7C-C20EDC744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37079-FF72-4B69-B6AC-DEDAD06DE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0F558-FF59-44A8-80BD-50EBCCD3B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EC987-7000-4488-8085-3B01B6C01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31F2F-85B4-4B90-B21E-D0CB22716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3434B-C9CA-489C-B985-3E22A3531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7C57B-B37D-4E08-A6A6-04FFBBF6B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D18DD-D0B9-404B-ACDB-FA92E8C7788E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9091A-6BD9-4F74-9587-1BBE99881F2E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eec94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eec94"/>
                </a:solidFill>
                <a:latin typeface="굴림"/>
              </a:rPr>
              <a:t>13</a:t>
            </a:r>
            <a:r>
              <a:rPr b="1" lang="zh-CN" sz="5400" spc="-1" strike="noStrike">
                <a:solidFill>
                  <a:srgbClr val="feec94"/>
                </a:solidFill>
                <a:latin typeface="굴림"/>
              </a:rPr>
              <a:t>장 특수아의 가족</a:t>
            </a:r>
            <a:endParaRPr b="1" lang="en-US" sz="5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개요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족의 반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새로운 도전과 적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부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장애 형제 자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5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낯선 사람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성적인 슬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인적인 성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토론 결과 발표하기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조별 토론결과를 정리하고 발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질문하세요</a:t>
            </a:r>
            <a:r>
              <a:rPr b="1" lang="en-US" sz="4400" spc="-1" strike="noStrike">
                <a:solidFill>
                  <a:srgbClr val="feec94"/>
                </a:solidFill>
                <a:latin typeface="굴림"/>
              </a:rPr>
              <a:t>!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556000" y="1844640"/>
            <a:ext cx="403200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19:18:10Z</dcterms:created>
  <dc:creator>.</dc:creator>
  <dc:description/>
  <dc:language>en-US</dc:language>
  <cp:lastModifiedBy>f</cp:lastModifiedBy>
  <dcterms:modified xsi:type="dcterms:W3CDTF">2007-05-17T01:58:07Z</dcterms:modified>
  <cp:revision>13</cp:revision>
  <dc:subject/>
  <dc:title>제 13장 농아동의 학습 수행</dc:title>
</cp:coreProperties>
</file>