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12976-7EA3-4CE2-AD18-435E803F3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19BB3-566E-4FB3-910E-3B0E18EB3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A9987-D637-436F-A227-8C5B60A7F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CBBD5-A490-4109-95E7-F201CC140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065DF-CCB1-4B0C-B259-1A66976AB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ABF47-F945-4BB4-97F8-F7763B73F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0C49C-11F8-4CA6-83E0-CD78C5828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08E36-8A55-418C-BC33-80050C59C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04338-1D67-46C3-BC82-0E2882D24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3ECBF-1499-4EAB-B8FF-663C156DE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CD6A0-5C2F-40B2-9461-6BA2E87C5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228B8-25B7-4A6A-A786-8440D941B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2CC07-4DA3-4C10-9716-5D70D5A92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3F8E5-3C21-49A2-BF08-44B69ED47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10545-6A4E-41F8-9BF1-B42AA8CA5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39404-BE9F-4F1B-9016-737DECA4A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7B5E7-78B8-47AE-8805-11717459B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CEE7E-D0E9-4E60-B674-422B3FF14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A020E-6A15-48D9-919C-852106A62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C8800-4AB0-49FD-A44B-E0D223389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24B8C-E8C7-4B65-91E8-8FB62878A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BD343-E7F8-4CF1-9A17-7FD5A03B2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D4858-2303-4DC5-963A-75637AC82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D9561-9CA1-487B-BC7F-F5F80396C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C062D-B919-4144-81F2-E16834460F80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CD52B-C922-4DC5-B219-A166EBEE62DE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5</a:t>
            </a: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장 학습장애아 교육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념과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IQ 85-100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기교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1.7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편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부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보통 이상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환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low achievemen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지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IQ 85-70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반복 학습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slow learner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e5ffff"/>
                </a:solidFill>
                <a:latin typeface="굴림"/>
              </a:rPr>
              <a:t>원인 및 출현율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추신경계의 이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좌반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선형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위계적과 체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논리적과 계획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언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청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실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우반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종합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무선적과 비형식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직관적과 우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공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환상 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두뇌의 미세 기능 장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보차이이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인지적 결함의 오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원인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반적인 원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보처리의 한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환경적인 영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출현율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특수아동 출현율 중 가장 높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학습장애의 분류 및 특성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의 유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분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특정학습장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읽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쓰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말하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듣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셈하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생각하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80%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가 읽기 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행동적 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 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진단 평가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특수교육진흥법에서는 학습장애를 진단 평가하는 도구로는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지능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2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기초학습기능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3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학습준비도 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4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시지각발달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5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지각운동발달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6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시각운동통합발달검사 등을 제시하였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진정한 평가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수행평가와 교육과정중심평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Authentic Assessment: ‘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실제’의 생활에서 읽고 쓰는 능력을 가장 밀접하게 사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지속적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수학습에 정보를 제공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육과정에 통합되어져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발달에 있어서 적절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자아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평가를 인식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활동적인 협동학습이 가능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참고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: Fuuntas &amp; Pinnell, 2001, p.484)  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교육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습의 필수조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주의력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중재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3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기억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4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동기화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효과적인 교수활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읽기에 대한 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쓰기에 대한 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난독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수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고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생각하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질문하세요</a:t>
            </a: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!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2484360" y="1916280"/>
            <a:ext cx="417528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9T03:52:24Z</dcterms:created>
  <dc:creator>.</dc:creator>
  <dc:description/>
  <dc:language>en-US</dc:language>
  <cp:lastModifiedBy>f</cp:lastModifiedBy>
  <dcterms:modified xsi:type="dcterms:W3CDTF">2007-04-05T02:46:59Z</dcterms:modified>
  <cp:revision>8</cp:revision>
  <dc:subject/>
  <dc:title>제 5장 과학교육과정</dc:title>
</cp:coreProperties>
</file>